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8172-BF13-459A-B653-BEBE1D0A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70B-4904-40F1-81FA-36805705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AD0C-4AAB-4F99-90E4-68A539DD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E07-6B19-4BF3-925F-1F0E10DB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B55-E1F1-41A9-ADD9-9EC14D2B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24F-011E-4CEC-9007-6E7219AF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9AA-59C2-4A36-BDDC-FE218B43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9AF-22B2-46E0-9D3A-BA2ECB37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8DA-4D02-45E1-BDBC-645C4895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76E4-923A-494A-9189-F5455EA0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1CF-1AB3-4FEE-A567-291E860B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66B-6373-42D5-90A9-5FCE1CA9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9C8E-52C5-408A-8579-F72F95DBC92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280" y="6410160"/>
            <a:ext cx="992160" cy="20484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7800" y="3538080"/>
            <a:ext cx="516960" cy="1086120"/>
            <a:chOff x="307800" y="3538080"/>
            <a:chExt cx="516960" cy="1086120"/>
          </a:xfrm>
        </p:grpSpPr>
        <p:grpSp>
          <p:nvGrpSpPr>
            <p:cNvPr id="43" name=""/>
            <p:cNvGrpSpPr/>
            <p:nvPr/>
          </p:nvGrpSpPr>
          <p:grpSpPr>
            <a:xfrm>
              <a:off x="307800" y="3698640"/>
              <a:ext cx="128520" cy="779400"/>
              <a:chOff x="307800" y="3698640"/>
              <a:chExt cx="128520" cy="779400"/>
            </a:xfrm>
          </p:grpSpPr>
          <p:sp>
            <p:nvSpPr>
              <p:cNvPr id="44" name=""/>
              <p:cNvSpPr/>
              <p:nvPr/>
            </p:nvSpPr>
            <p:spPr>
              <a:xfrm>
                <a:off x="307800" y="447804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07800" y="441324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07800" y="434808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07800" y="428328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07800" y="421812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7800" y="415332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7800" y="408852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7800" y="402336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7800" y="395856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07800" y="389340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07800" y="382860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07800" y="376344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07800" y="369864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 rot="16200000">
              <a:off x="355320" y="3538080"/>
              <a:ext cx="100080" cy="1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347400" y="4524120"/>
              <a:ext cx="100080" cy="1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69720" y="3698640"/>
              <a:ext cx="455040" cy="779400"/>
              <a:chOff x="369720" y="3698640"/>
              <a:chExt cx="455040" cy="779400"/>
            </a:xfrm>
          </p:grpSpPr>
          <p:sp>
            <p:nvSpPr>
              <p:cNvPr id="60" name=""/>
              <p:cNvSpPr/>
              <p:nvPr/>
            </p:nvSpPr>
            <p:spPr>
              <a:xfrm>
                <a:off x="369720" y="447804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69720" y="441324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69720" y="434808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9720" y="428328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69720" y="421812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69720" y="415332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69720" y="408852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69720" y="402336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9720" y="395856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9720" y="389340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9720" y="382860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9720" y="376344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9720" y="369864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358920" y="255600"/>
            <a:ext cx="992160" cy="20484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7800" y="2172240"/>
            <a:ext cx="516960" cy="1085400"/>
            <a:chOff x="307800" y="2172240"/>
            <a:chExt cx="516960" cy="1085400"/>
          </a:xfrm>
        </p:grpSpPr>
        <p:grpSp>
          <p:nvGrpSpPr>
            <p:cNvPr id="75" name=""/>
            <p:cNvGrpSpPr/>
            <p:nvPr/>
          </p:nvGrpSpPr>
          <p:grpSpPr>
            <a:xfrm>
              <a:off x="307800" y="2332800"/>
              <a:ext cx="128520" cy="779040"/>
              <a:chOff x="307800" y="2332800"/>
              <a:chExt cx="128520" cy="779040"/>
            </a:xfrm>
          </p:grpSpPr>
          <p:sp>
            <p:nvSpPr>
              <p:cNvPr id="76" name=""/>
              <p:cNvSpPr/>
              <p:nvPr/>
            </p:nvSpPr>
            <p:spPr>
              <a:xfrm>
                <a:off x="307800" y="311184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07800" y="304704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07800" y="298224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07800" y="291708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07800" y="285228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07800" y="278712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07800" y="272232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07800" y="265752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7800" y="259236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7800" y="252756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07800" y="246240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07800" y="239760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7800" y="233280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rot="16200000">
              <a:off x="355320" y="2171880"/>
              <a:ext cx="99720" cy="1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347400" y="3157560"/>
              <a:ext cx="99720" cy="1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69720" y="2332800"/>
              <a:ext cx="455040" cy="779040"/>
              <a:chOff x="369720" y="2332800"/>
              <a:chExt cx="455040" cy="779040"/>
            </a:xfrm>
          </p:grpSpPr>
          <p:sp>
            <p:nvSpPr>
              <p:cNvPr id="92" name=""/>
              <p:cNvSpPr/>
              <p:nvPr/>
            </p:nvSpPr>
            <p:spPr>
              <a:xfrm>
                <a:off x="369720" y="311184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69720" y="304704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69720" y="298224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69720" y="291708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69720" y="285228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69720" y="278712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69720" y="272232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69720" y="265752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69720" y="259236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9720" y="252756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69720" y="246240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69720" y="239760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69720" y="233280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07800" y="711720"/>
            <a:ext cx="516960" cy="1085400"/>
            <a:chOff x="307800" y="711720"/>
            <a:chExt cx="516960" cy="1085400"/>
          </a:xfrm>
        </p:grpSpPr>
        <p:grpSp>
          <p:nvGrpSpPr>
            <p:cNvPr id="106" name=""/>
            <p:cNvGrpSpPr/>
            <p:nvPr/>
          </p:nvGrpSpPr>
          <p:grpSpPr>
            <a:xfrm>
              <a:off x="307800" y="872280"/>
              <a:ext cx="128520" cy="779040"/>
              <a:chOff x="307800" y="872280"/>
              <a:chExt cx="128520" cy="779040"/>
            </a:xfrm>
          </p:grpSpPr>
          <p:sp>
            <p:nvSpPr>
              <p:cNvPr id="107" name=""/>
              <p:cNvSpPr/>
              <p:nvPr/>
            </p:nvSpPr>
            <p:spPr>
              <a:xfrm>
                <a:off x="307800" y="165132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7800" y="158652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7800" y="152172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7800" y="145656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7800" y="139176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7800" y="132660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7800" y="126180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7800" y="119700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7800" y="113184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7800" y="106704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7800" y="100188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7800" y="93708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7800" y="872280"/>
                <a:ext cx="128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rot="16200000">
              <a:off x="355320" y="711360"/>
              <a:ext cx="99720" cy="1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347400" y="1697040"/>
              <a:ext cx="99720" cy="1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69720" y="872280"/>
              <a:ext cx="455040" cy="779040"/>
              <a:chOff x="369720" y="872280"/>
              <a:chExt cx="455040" cy="779040"/>
            </a:xfrm>
          </p:grpSpPr>
          <p:sp>
            <p:nvSpPr>
              <p:cNvPr id="123" name=""/>
              <p:cNvSpPr/>
              <p:nvPr/>
            </p:nvSpPr>
            <p:spPr>
              <a:xfrm>
                <a:off x="369720" y="165132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9720" y="158652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69720" y="152172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69720" y="145656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9720" y="139176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9720" y="132660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9720" y="126180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9720" y="119700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69720" y="113184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69720" y="106704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69720" y="100188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9720" y="93708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69720" y="872280"/>
                <a:ext cx="45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12:10:05Z</dcterms:created>
  <dc:creator>SANAI Naritoshi</dc:creator>
  <dc:description/>
  <dc:language>en-US</dc:language>
  <cp:lastModifiedBy>SANAI Naritoshi</cp:lastModifiedBy>
  <dcterms:modified xsi:type="dcterms:W3CDTF">2001-04-06T12:40:50Z</dcterms:modified>
  <cp:revision>2</cp:revision>
  <dc:subject/>
  <dc:title>PowerPoint プレゼンテーション</dc:title>
</cp:coreProperties>
</file>